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2278-3FEA-4E13-8962-EFE26368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3A19-60A6-49DB-8FD4-21286139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5386-5DA1-473E-982E-42838D15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D52E-ED79-41B2-9121-AD1A5C40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EC0B-6266-42D6-AE4B-FED32C24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2A52-A644-4205-841F-6B512CA6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6974-1426-41B4-86C0-BB647A98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E96B-15CC-4207-8093-9DD5ED25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91DA-2F5D-48B1-A24E-E68F3015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52EA-3C66-4F0C-9218-CEBA5109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6185-EA51-4BF2-B8D8-B4A77547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7C12-4D0E-4D52-8E20-094C2C1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5797-4CEA-462B-B218-F97C7A9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F37C-8BDF-41A5-9543-01E4EFF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3FD8-5164-42C8-8837-67810AB9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735F-9FBA-4598-9FEA-EF7FEE57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F2B6-BF9B-46AC-B709-EE1D860B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F4CB-F744-49A8-9936-924DD6F7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2948-6B1B-45DD-BD6C-CAB4CFCE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244E-43EB-4B2F-9FC8-C0A8450B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B1C5-327A-4592-989C-D488FADF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CE0E-446C-4B1B-A9E4-281C1525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6194-9DE3-4F16-B1D2-5236E2BB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F163-AA66-4B42-B194-ABC0961A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B3EF-BF2B-4D23-9FD9-71E55C75CCE3}" type="slidenum">
              <a:rPr b="0" lang="it-IT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83AB-40EB-49FC-BD09-E239A7BED875}" type="slidenum">
              <a:rPr b="0" lang="it-IT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Microsoft Wo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Margini şi pagin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03840" y="1052640"/>
            <a:ext cx="618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cc"/>
                </a:solidFill>
                <a:latin typeface="Tahoma"/>
              </a:rPr>
              <a:t>Marginea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reprezintă spaţiul alb dintre text şi marginile pagini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tabilirea marginii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poate fa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 cu mouse-ul şi cu ajutorul rig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File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ge Setup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pentru a deschide caseta de dialog şi din etichet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Margins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introduc valorile marginilor după care se face clic pe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Dimensiune şi orientarea paginii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 stabileşte făcând următorii paş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File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aleg comand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ge Set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clic pe eticheta Paper Size se alege: dimensiunea paginii  Paper Size, orientarea Portrait sau Landscape, zona de document la care se aplică  noile valori ale paginii, se apasă butonul 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555640" cy="380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2386080" cy="19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300720" y="3933720"/>
            <a:ext cx="2457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Elemente grafice în documen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555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210240"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Inserarea unei imagini Clip A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 alege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Pictur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şi opţiune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ClipA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au apăsam butonul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Caseta de dialog Microsoft Clip Gallery se selectăm: categoria de imagini, imaginea şi apasăm  butonul –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area unei imagini grafi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Pictur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şi opţiune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rom File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e face clic pe săgeata de derulare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Look in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 şi selectăm folderul în care se găseşte imaginea dorită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lectăm tipurile de fişiere (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ile typ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pentru a vedea imaginea se face clic pe buton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Preview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clic pe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Inse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Desene în docum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View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alegem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Toolbars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 şi afişăm bar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Drawing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care conţine instrumente de desen: linii, săgeţi, elipse, dreptunghiuri, casete de text, obiecte, et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3203640" cy="3032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940360" y="4437000"/>
            <a:ext cx="3203640" cy="1784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648320" y="6591240"/>
            <a:ext cx="43495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Tabe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area unui tab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Table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 alege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 table ..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în caseta de dialog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ert tabl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introduce numărul de rânduri şi de coloane, se stabileşte lăţimea coloanelor si se apasă buton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apăsănd buton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AutoFormat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poate stabili de la început formatul tabelului alegând din lista afişată un format realizat şi apoi se face clic pe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29264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- în meniul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Table</a:t>
            </a: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  se găsesc toate comenzile pentru editarea tabelului (ştergerea unei linii, coloane sau celule, adăugarea, modificarea dimensiunilor, et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- pentru formtarea tabelului se mai folosesc butoanele din bara de instrumente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Tables and Borders</a:t>
            </a: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- dacă nu este acecsibilă se se bifeaza această bara astfel: din meniul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View</a:t>
            </a:r>
            <a:r>
              <a:rPr b="1" lang="ro-RO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Toolbars</a:t>
            </a: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 şi opţiunea </a:t>
            </a:r>
            <a:r>
              <a:rPr b="1" lang="ro-RO" sz="1400" spc="-1" strike="noStrike">
                <a:solidFill>
                  <a:srgbClr val="ff3300"/>
                </a:solidFill>
                <a:latin typeface="Tahoma"/>
              </a:rPr>
              <a:t>Tables and Bor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7800" y="1273320"/>
            <a:ext cx="1295280" cy="555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2352600" cy="1195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905440" y="2819520"/>
            <a:ext cx="3086280" cy="2762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546440" y="3048120"/>
            <a:ext cx="1320840" cy="304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250920" y="6643800"/>
            <a:ext cx="54864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cc"/>
                </a:solidFill>
                <a:latin typeface="Tahoma"/>
              </a:rPr>
              <a:t>Editorul de text </a:t>
            </a:r>
            <a:br>
              <a:rPr sz="3800"/>
            </a:br>
            <a:r>
              <a:rPr b="0" lang="ro-RO" sz="3800" spc="-1" strike="noStrike">
                <a:solidFill>
                  <a:srgbClr val="ffffcc"/>
                </a:solidFill>
                <a:latin typeface="Tahoma"/>
              </a:rPr>
              <a:t>                 Microsoft Word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Lansarea aplicaţie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ementele interfeţe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rearea unui nou docu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Fonturi, chenare şi umb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dentarea şi alinie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Deplasarea şi salv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Margini şi pagi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emente grafice în docu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Tab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pre Prezentar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Lansarea aplicaţiei şi închidere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Lansarea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aplicaţiei se fac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1. clic pe buton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START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, clic p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Programs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clic p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Microsoft Word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2. clic pe butonul       din bara de aplicaţii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3. dublu clic pe scurtătură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Închiderea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se 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- cu buton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Close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,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- cu tastel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Alt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,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-381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File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600" indent="0" algn="just">
              <a:spcBef>
                <a:spcPts val="499"/>
              </a:spcBef>
              <a:buNone/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14800" y="1600200"/>
            <a:ext cx="3303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Elementele interfeţe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uton de închidere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uton de restaur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uton de minimizare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a de tit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a de meniu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a de instru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spaţiul de luc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a de derul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951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are de sta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2413080"/>
            <a:ext cx="40384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Crearea unui nou docu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1  din meni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FILE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e alege comanda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2  clic pe butonul din bara de instrumente se obţine o foaie alb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3  se apasă simultan tastel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Ctrl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 şi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se obţine o foaie alb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rearea unui  document, pornind de la un şablon se fac următorii paş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din meniul FILE se alege comanda NEW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e alege categoria de şabloane dor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lic pe pictograma şablonului dor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lic pe OK  documentul este afişat pe ecran şi este pregătit pentru edita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8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684840" y="3068640"/>
            <a:ext cx="2459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cc"/>
                </a:solidFill>
                <a:latin typeface="Tahoma"/>
              </a:rPr>
              <a:t>Fonturi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907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cc"/>
                </a:solidFill>
                <a:latin typeface="Tahoma"/>
              </a:rPr>
              <a:t>Fontul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reprezintă informaţiile despre un set de caractere: </a:t>
            </a:r>
            <a:r>
              <a:rPr b="1" lang="ro-RO" sz="1800" spc="-1" strike="noStrike">
                <a:solidFill>
                  <a:srgbClr val="ff3300"/>
                </a:solidFill>
                <a:latin typeface="Tahoma"/>
              </a:rPr>
              <a:t>desen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(type face), </a:t>
            </a:r>
            <a:r>
              <a:rPr b="1" lang="ro-RO" sz="1800" spc="-1" strike="noStrike">
                <a:solidFill>
                  <a:srgbClr val="ff3300"/>
                </a:solidFill>
                <a:latin typeface="Tahoma"/>
              </a:rPr>
              <a:t>înălţime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1800" spc="-1" strike="noStrike">
                <a:solidFill>
                  <a:srgbClr val="ff3300"/>
                </a:solidFill>
                <a:latin typeface="Tahoma"/>
              </a:rPr>
              <a:t>lăţime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1800" spc="-1" strike="noStrike">
                <a:solidFill>
                  <a:srgbClr val="ff3300"/>
                </a:solidFill>
                <a:latin typeface="Tahoma"/>
              </a:rPr>
              <a:t>stil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9152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lectarea fontului - s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electaţi caracterele care  le modificaţ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9152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faceţi clic pe meniul Format şi alegeţi comanda Fo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9152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au apăsaţi butonul  din bara cu instrum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191520"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e deschide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aseta de dialog FO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egeţi tipul fontului din listă (selectaţi tipul dori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egeţi stilul de fo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egeţi mărimea fontulu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egeţi culoare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lectaţi efectele dor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vizualizaţi fontul obţinut şi selectaţi 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773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ffffcc"/>
                </a:solidFill>
                <a:latin typeface="Tahoma"/>
              </a:rPr>
              <a:t>Chenare şi umbre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05264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electăm textul -  din meniul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Format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alegem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pţiunea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Borders and Sha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Chenarel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stabilesc astfel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alegem etiche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Bord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electăm aspectul general făcând clic pe pictograma din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et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electăm din lis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tyl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: stilul liniei, culoarea, grosimea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în secţiune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Preview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facem clic direct pe schemă pentru a introduce sau elimina chenarul din latur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 clic pe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undalul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e stabileşte astfel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alegem etiche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hading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Pentru o culoare compactă o selectăm din paleta din case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i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Pentru a folosi un model aleg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tilul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(Patterns) şi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culoarea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(Color) din lis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În secţiunea P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review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vedeţi rezultatul selectãri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" indent="-28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La sfârşit faceţi clic pe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610240" y="1413000"/>
            <a:ext cx="3533760" cy="273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96000" y="4313160"/>
            <a:ext cx="33480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</a:t>
            </a: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dentarea şi aliniere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526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dentarea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este distanţa dintre text şi marginile pagin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 stabileşte cel mai simplu cu ajutorul riglei (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Ruler)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şi a mouse-ulu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au din meniul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Format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alege comand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ragraph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… iar în caseta de dialog se stabileşte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identarea la stânga şi dreapta (left şi righ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identarea pentru prima linie din opţiunea Special şi se introduce valoarea în caseta de text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- se apasă 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Spaţiul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dintre rânduri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 stabileşte din opţiunea Line spac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Alinierea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textului poate fi:  la stânga (left),  la centru (center) la dreapta (right) şi completă (justif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linierea se poate stabili din: din caseta de dialog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Paragraph…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se alege opţiunea din lista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Alignement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, sau se folosim butoanele din bara de instrumente standa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37160" y="1268280"/>
            <a:ext cx="3606840" cy="4133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04000" y="5661000"/>
            <a:ext cx="1460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cc"/>
                </a:solidFill>
                <a:latin typeface="Tahoma"/>
              </a:rPr>
              <a:t>Deplasarea şi salvare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ro-RO" sz="1600" spc="-1" strike="noStrike">
                <a:solidFill>
                  <a:srgbClr val="ffffcc"/>
                </a:solidFill>
                <a:latin typeface="Tahoma"/>
              </a:rPr>
              <a:t>Deplasarea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în text se face cu tastele directoare, tastele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Home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End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PageUp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şi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PageDown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sau combinaţii de tas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5472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lvarea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unui document nou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 poate face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din meni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ile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e alege comand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ve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au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Save 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sau se apasă butonul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Sav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la închiderea documentului se alege Yes pentru a salv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Pe ecran apare caseta de dialog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ve As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şi facem paşii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tabilim locul unde dorim să salvăm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ve in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scriem numele atribuit fişierului în caseta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File nam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- facem clic pe butonul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av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809960"/>
            <a:ext cx="8610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cc"/>
                </a:solidFill>
                <a:latin typeface="Tahoma"/>
              </a:rPr>
              <a:t>Deschiderea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unui document se poate fac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din meniul File se alege comanda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 se apasă butonul din bara de instrumente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se apasă simultan tastele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Ctrl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şi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Din caseta de dialog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Open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care rezultă se stabileş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- locul unde este fişierul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Look în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alegem numele din listă sau se scrie în caseta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File name,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se apasă butonul </a:t>
            </a:r>
            <a:r>
              <a:rPr b="1" lang="ro-RO" sz="1600" spc="-1" strike="noStrike">
                <a:solidFill>
                  <a:srgbClr val="ff33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253200" y="1628640"/>
            <a:ext cx="2890800" cy="15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248520" y="3573360"/>
            <a:ext cx="28954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2:44:04Z</dcterms:created>
  <dc:creator>ctvu3</dc:creator>
  <dc:description/>
  <dc:language>en-US</dc:language>
  <cp:lastModifiedBy>ctvu3</cp:lastModifiedBy>
  <dcterms:modified xsi:type="dcterms:W3CDTF">2010-01-03T13:13:46Z</dcterms:modified>
  <cp:revision>3</cp:revision>
  <dc:subject/>
  <dc:title>Recapitulare Microsoft Word</dc:title>
</cp:coreProperties>
</file>